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121973"/>
        <c:axId val="32064411"/>
      </c:barChart>
      <c:catAx>
        <c:axId val="67121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64411"/>
        <c:crosses val="autoZero"/>
        <c:auto val="1"/>
        <c:lblAlgn val="ctr"/>
        <c:lblOffset val="100"/>
        <c:noMultiLvlLbl val="0"/>
      </c:catAx>
      <c:valAx>
        <c:axId val="32064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121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99D-E18D-46CB-934D-A5038430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1A3-B7D3-40ED-8FC5-E1599100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F4DC-E82F-497F-ABDF-F1AF012C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D79-104E-4543-874F-1CFF0827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6A1-6EA7-43C9-99BC-8B254310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5D7-6EFE-4DFD-BEC8-229D6773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A8A0-ACC3-499E-A6F5-4770B0B4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CB91-4BD8-4093-AB45-5DFD9278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EC2-2872-4F27-9668-D7B74909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A2D-5303-4292-A19D-58027008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7C0-F4EE-46FA-9836-2AF7EF44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C25-9CD2-48F7-8455-C3A166E4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E3B01-CC99-44A6-9905-108AAE15F3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