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70800"/>
        <c:axId val="36609225"/>
      </c:barChart>
      <c:catAx>
        <c:axId val="75070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09225"/>
        <c:crosses val="autoZero"/>
        <c:auto val="1"/>
        <c:lblAlgn val="ctr"/>
        <c:lblOffset val="100"/>
        <c:noMultiLvlLbl val="0"/>
      </c:catAx>
      <c:valAx>
        <c:axId val="36609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70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3E2-2838-4B5C-8AB3-D146F8AF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399-E4FC-4BCF-9B7F-8F7AD787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277-0C5C-4322-B3FA-7440DC01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BAE-CD29-423D-AD49-967678A8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EB2-7EE5-4A1C-B717-DDEAF6DB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46F-FD74-4260-8A6B-903514D0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8E9-9DC1-45CB-8ABC-32C5CECA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3A9-9491-45FC-B779-D6FEC062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CDD-E40F-4C74-B38F-14592CC7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EC8-04B9-4B72-A63C-88CD7097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649-7D73-40FE-87F6-34266C10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457-5760-43F9-AA88-23C197C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6A9E2-0428-4AFF-99FC-DD770954D6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