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04794"/>
        <c:axId val="59870558"/>
      </c:barChart>
      <c:catAx>
        <c:axId val="69904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0558"/>
        <c:crosses val="autoZero"/>
        <c:auto val="1"/>
        <c:lblAlgn val="ctr"/>
        <c:lblOffset val="100"/>
        <c:noMultiLvlLbl val="0"/>
      </c:catAx>
      <c:valAx>
        <c:axId val="59870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04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248-4BE9-435C-9266-DE83E49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02A-7921-429A-BBAD-D48EBB43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3CB-31C3-4000-B518-102F2046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DAE-D5EA-482F-BF4F-B9EBF479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6A9-CE7A-4087-92F3-501F205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95B-72F9-49AC-9334-709A78A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6D0-2970-41F0-B939-43A22FC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AE7-7F46-4D78-A64E-E52DB08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E84-CAE2-429D-8F8A-612A062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E0E-91D0-4491-8A96-AD78C04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1AA-CAA4-469A-AE36-BD76991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AF0-A914-45DE-9D50-5E59D42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343EF-6329-4A4B-896B-ABB9592ED7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