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63074"/>
        <c:axId val="98902136"/>
      </c:barChart>
      <c:catAx>
        <c:axId val="851630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02136"/>
        <c:crosses val="autoZero"/>
        <c:auto val="1"/>
        <c:lblAlgn val="ctr"/>
        <c:lblOffset val="100"/>
        <c:noMultiLvlLbl val="0"/>
      </c:catAx>
      <c:valAx>
        <c:axId val="989021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630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97B5-FCEF-4548-AAF4-0BD1A1DB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92EC-A13A-48E6-ACFD-83FC8288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A0A-801E-4A45-B02D-27085DBB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1EF-38B5-45F1-A87C-BF65154E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420-0CE1-4323-84A7-9B3CA059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1E29-1405-4861-801B-A710AB37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F46D-B6DD-46C5-BD7C-C7BA9C4C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DB45-8F54-446D-A449-193EECC8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DA31-3403-4188-B535-B6509AFC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4A7-DD74-431A-887B-2D787A43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C439-7226-4746-A0F1-EC00218D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5522-426B-4A78-B537-DAAF4C7C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B85B1-1FA1-45FA-89B6-6DC259B49D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