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97029"/>
        <c:axId val="13637168"/>
      </c:barChart>
      <c:catAx>
        <c:axId val="93597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37168"/>
        <c:crosses val="autoZero"/>
        <c:auto val="1"/>
        <c:lblAlgn val="ctr"/>
        <c:lblOffset val="100"/>
        <c:noMultiLvlLbl val="0"/>
      </c:catAx>
      <c:valAx>
        <c:axId val="13637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97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B3D-0028-45BB-A920-E9EBE476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CFB-03CC-4BCB-9674-1F13421F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0CB-C0B6-4172-8AAF-A1D8D40B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639-572A-476A-9ED6-EE413017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366-44C2-4F16-BD5C-7C39EDE2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A7E-1B42-43E1-97B6-52F920C9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C1A-0743-4B21-8879-8F27D0BA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A1B-082C-4523-8EA5-DF9082ED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78A-75BF-4D4C-BAD7-8D944436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F31-AABE-4DB9-A77C-80D5A935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650-C826-4272-BA30-CD2AF134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169-0D45-4D6A-8B58-33E74E7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35E2A-BA7A-4228-B55E-AD86755B1E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