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4581"/>
        <c:axId val="52068571"/>
      </c:barChart>
      <c:catAx>
        <c:axId val="4399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68571"/>
        <c:crosses val="autoZero"/>
        <c:auto val="1"/>
        <c:lblAlgn val="ctr"/>
        <c:lblOffset val="100"/>
        <c:noMultiLvlLbl val="0"/>
      </c:catAx>
      <c:valAx>
        <c:axId val="52068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A73-8B35-4F76-BA24-75C84D0B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214-CAE8-4894-A655-3918D3ED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BAD-FCA1-401D-8B9E-C6ABC6E9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17F-1213-4BA9-A110-35E024FE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DBE-0920-4A7A-BCEB-5FA1C5D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A31-445E-4CAF-861D-AB0F773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476-6F7C-4E85-A529-14BB805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5EF-2B09-424C-95E7-D3C1E8C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216-EDC5-489D-867E-B3C0BB35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233-C016-40C4-AFA7-CEF81C1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132-F70F-495D-854B-A0E22C9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C83-E858-4F80-8767-2D20D2C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EF546-B00F-4893-995C-E523B0296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