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50648"/>
        <c:axId val="45503936"/>
      </c:barChart>
      <c:catAx>
        <c:axId val="40550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03936"/>
        <c:crosses val="autoZero"/>
        <c:auto val="1"/>
        <c:lblAlgn val="ctr"/>
        <c:lblOffset val="100"/>
        <c:noMultiLvlLbl val="0"/>
      </c:catAx>
      <c:valAx>
        <c:axId val="45503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50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17F-B503-42DA-ADF9-60C01DF4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59F-EE06-453C-9EDB-F664A9F4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541-F23A-477E-9B52-E89FB238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F25-3919-4FE3-8F12-AE15C66A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E4F-9DA4-497C-AB37-3F924B72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A06-BA7E-4EFC-8D20-9C31FBAB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E14-DFC9-4BCA-A300-3A84ABCD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AC3-46D8-477C-89EA-07298860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1F4-8073-4356-9401-43AE6857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053-5404-494B-885B-8AF08A0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3CD-59AD-433F-B67A-F366BA9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4D6-4E36-4D4A-BC46-198A5AF9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884C2-CCDC-4107-8A2E-2321D88B10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