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moveTo>
                  <a:pt x="704" y="169"/>
                </a:moveTo>
                <a:moveTo>
                  <a:pt x="667" y="178"/>
                </a:moveTo>
                <a:moveTo>
                  <a:pt x="634" y="194"/>
                </a:moveTo>
                <a:moveTo>
                  <a:pt x="577" y="221"/>
                </a:moveTo>
                <a:moveTo>
                  <a:pt x="526" y="254"/>
                </a:moveTo>
                <a:moveTo>
                  <a:pt x="467" y="275"/>
                </a:moveTo>
                <a:moveTo>
                  <a:pt x="425" y="306"/>
                </a:moveTo>
                <a:moveTo>
                  <a:pt x="374" y="321"/>
                </a:moveTo>
                <a:moveTo>
                  <a:pt x="323" y="332"/>
                </a:moveTo>
                <a:moveTo>
                  <a:pt x="290" y="349"/>
                </a:moveTo>
                <a:moveTo>
                  <a:pt x="257" y="367"/>
                </a:moveTo>
                <a:moveTo>
                  <a:pt x="225" y="384"/>
                </a:moveTo>
                <a:moveTo>
                  <a:pt x="219" y="387"/>
                </a:moveTo>
                <a:moveTo>
                  <a:pt x="213" y="392"/>
                </a:moveTo>
                <a:moveTo>
                  <a:pt x="208" y="396"/>
                </a:moveTo>
                <a:moveTo>
                  <a:pt x="202" y="-8559"/>
                </a:moveTo>
                <a:moveTo>
                  <a:pt x="-1" y="-1"/>
                </a:moveTo>
                <a:moveTo>
                  <a:pt x="-1" y="511"/>
                </a:moveTo>
                <a:moveTo>
                  <a:pt x="176" y="421"/>
                </a:moveTo>
                <a:moveTo>
                  <a:pt x="159" y="424"/>
                </a:moveTo>
                <a:moveTo>
                  <a:pt x="144" y="430"/>
                </a:moveTo>
                <a:moveTo>
                  <a:pt x="110" y="442"/>
                </a:moveTo>
                <a:moveTo>
                  <a:pt x="76" y="482"/>
                </a:moveTo>
                <a:moveTo>
                  <a:pt x="52" y="-515"/>
                </a:moveTo>
                <a:moveTo>
                  <a:pt x="38" y="518"/>
                </a:moveTo>
                <a:moveTo>
                  <a:pt x="34" y="541"/>
                </a:moveTo>
                <a:moveTo>
                  <a:pt x="23" y="14893"/>
                </a:moveTo>
                <a:moveTo>
                  <a:pt x="16" y="588"/>
                </a:moveTo>
                <a:moveTo>
                  <a:pt x="6" y="618"/>
                </a:moveTo>
                <a:moveTo>
                  <a:pt x="0" y="649"/>
                </a:moveTo>
                <a:moveTo>
                  <a:pt x="2" y="691"/>
                </a:moveTo>
                <a:moveTo>
                  <a:pt x="3" y="734"/>
                </a:moveTo>
                <a:moveTo>
                  <a:pt x="6" y="776"/>
                </a:moveTo>
                <a:moveTo>
                  <a:pt x="12" y="854"/>
                </a:moveTo>
                <a:moveTo>
                  <a:pt x="77" y="870"/>
                </a:moveTo>
                <a:moveTo>
                  <a:pt x="139" y="891"/>
                </a:moveTo>
                <a:moveTo>
                  <a:pt x="171" y="913"/>
                </a:moveTo>
                <a:moveTo>
                  <a:pt x="222" y="913"/>
                </a:moveTo>
                <a:moveTo>
                  <a:pt x="260" y="920"/>
                </a:moveTo>
                <a:moveTo>
                  <a:pt x="310" y="918"/>
                </a:moveTo>
                <a:moveTo>
                  <a:pt x="364" y="930"/>
                </a:moveTo>
                <a:moveTo>
                  <a:pt x="409" y="908"/>
                </a:moveTo>
                <a:moveTo>
                  <a:pt x="431" y="897"/>
                </a:moveTo>
                <a:moveTo>
                  <a:pt x="445" y="874"/>
                </a:moveTo>
                <a:moveTo>
                  <a:pt x="473" y="874"/>
                </a:move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" name=""/>
          <p:cNvCxnSpPr/>
          <p:nvPr/>
        </p:nvCxnSpPr>
        <p:spPr>
          <a:xfrm flipH="1">
            <a:off x="2629800" y="2225520"/>
            <a:ext cx="3183480" cy="142632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moveTo>
                  <a:pt x="704" y="169"/>
                </a:moveTo>
                <a:moveTo>
                  <a:pt x="667" y="178"/>
                </a:moveTo>
                <a:moveTo>
                  <a:pt x="634" y="194"/>
                </a:moveTo>
                <a:moveTo>
                  <a:pt x="577" y="221"/>
                </a:moveTo>
                <a:moveTo>
                  <a:pt x="526" y="254"/>
                </a:moveTo>
                <a:moveTo>
                  <a:pt x="467" y="275"/>
                </a:moveTo>
                <a:moveTo>
                  <a:pt x="425" y="306"/>
                </a:moveTo>
                <a:moveTo>
                  <a:pt x="374" y="321"/>
                </a:moveTo>
                <a:moveTo>
                  <a:pt x="323" y="332"/>
                </a:moveTo>
                <a:moveTo>
                  <a:pt x="290" y="349"/>
                </a:moveTo>
                <a:moveTo>
                  <a:pt x="257" y="367"/>
                </a:moveTo>
                <a:moveTo>
                  <a:pt x="225" y="384"/>
                </a:moveTo>
                <a:moveTo>
                  <a:pt x="219" y="387"/>
                </a:moveTo>
                <a:moveTo>
                  <a:pt x="213" y="392"/>
                </a:moveTo>
                <a:moveTo>
                  <a:pt x="208" y="396"/>
                </a:moveTo>
                <a:moveTo>
                  <a:pt x="202" y="-8559"/>
                </a:moveTo>
                <a:moveTo>
                  <a:pt x="-1" y="-1"/>
                </a:moveTo>
                <a:moveTo>
                  <a:pt x="-1" y="511"/>
                </a:moveTo>
                <a:moveTo>
                  <a:pt x="176" y="421"/>
                </a:moveTo>
                <a:moveTo>
                  <a:pt x="159" y="424"/>
                </a:moveTo>
                <a:moveTo>
                  <a:pt x="144" y="430"/>
                </a:moveTo>
                <a:moveTo>
                  <a:pt x="110" y="442"/>
                </a:moveTo>
                <a:moveTo>
                  <a:pt x="76" y="482"/>
                </a:moveTo>
                <a:moveTo>
                  <a:pt x="52" y="-515"/>
                </a:moveTo>
                <a:moveTo>
                  <a:pt x="38" y="518"/>
                </a:moveTo>
                <a:moveTo>
                  <a:pt x="34" y="541"/>
                </a:moveTo>
                <a:moveTo>
                  <a:pt x="23" y="14893"/>
                </a:moveTo>
                <a:moveTo>
                  <a:pt x="16" y="588"/>
                </a:moveTo>
                <a:moveTo>
                  <a:pt x="6" y="618"/>
                </a:moveTo>
                <a:moveTo>
                  <a:pt x="0" y="649"/>
                </a:moveTo>
                <a:moveTo>
                  <a:pt x="2" y="691"/>
                </a:moveTo>
                <a:moveTo>
                  <a:pt x="3" y="734"/>
                </a:moveTo>
                <a:moveTo>
                  <a:pt x="6" y="776"/>
                </a:moveTo>
                <a:moveTo>
                  <a:pt x="12" y="854"/>
                </a:moveTo>
                <a:moveTo>
                  <a:pt x="77" y="870"/>
                </a:moveTo>
                <a:moveTo>
                  <a:pt x="139" y="891"/>
                </a:moveTo>
                <a:moveTo>
                  <a:pt x="171" y="913"/>
                </a:moveTo>
                <a:moveTo>
                  <a:pt x="222" y="913"/>
                </a:moveTo>
                <a:moveTo>
                  <a:pt x="260" y="920"/>
                </a:moveTo>
                <a:moveTo>
                  <a:pt x="310" y="918"/>
                </a:moveTo>
                <a:moveTo>
                  <a:pt x="364" y="930"/>
                </a:moveTo>
                <a:moveTo>
                  <a:pt x="409" y="908"/>
                </a:moveTo>
                <a:moveTo>
                  <a:pt x="431" y="897"/>
                </a:moveTo>
                <a:moveTo>
                  <a:pt x="445" y="874"/>
                </a:moveTo>
                <a:moveTo>
                  <a:pt x="473" y="874"/>
                </a:move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1" idx="0"/>
            <a:endCxn id="41" idx="1"/>
          </p:cNvCxnSpPr>
          <p:nvPr/>
        </p:nvCxnSpPr>
        <p:spPr>
          <a:xfrm flipH="1">
            <a:off x="2319120" y="2225520"/>
            <a:ext cx="3494520" cy="60696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