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396001"/>
        <c:axId val="73805191"/>
      </c:barChart>
      <c:catAx>
        <c:axId val="153960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05191"/>
        <c:crosses val="autoZero"/>
        <c:auto val="1"/>
        <c:lblAlgn val="ctr"/>
        <c:lblOffset val="100"/>
        <c:noMultiLvlLbl val="0"/>
      </c:catAx>
      <c:valAx>
        <c:axId val="738051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3960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65DC-9220-49D2-A9AE-F81A88DFD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CC14-D3C1-4444-9BB7-1F639D1D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0665-AB29-4025-A94F-6D8147C7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ADA3-F6AB-408D-9D65-A4A33A745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FCEE-FBA4-499A-889B-41C472A8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CD21-2133-46AF-88FC-D15BCCE6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F0B9-3B97-4CC4-A347-65E76B6E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3154-09C2-4047-8342-3B7DD690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07B2-A05A-4DCF-9D4B-977978FB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1BFF-6FF7-4A39-A386-B4D77177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917E-CB1F-4A95-AD3B-291E19F4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885D-E264-48AD-ACA1-B78BFFB4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BC32A-50F3-46AC-9320-0F8D1CA0A7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