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20729"/>
        <c:axId val="81418319"/>
      </c:barChart>
      <c:catAx>
        <c:axId val="70720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18319"/>
        <c:crosses val="autoZero"/>
        <c:auto val="1"/>
        <c:lblAlgn val="ctr"/>
        <c:lblOffset val="100"/>
        <c:noMultiLvlLbl val="0"/>
      </c:catAx>
      <c:valAx>
        <c:axId val="81418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20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01D-12C4-4963-B689-E7D0C7C3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057-CAB7-4EBC-97D3-26D6127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389-F2A1-43E7-815D-D0F10AB6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9F8-DA5A-4BFF-B792-C3798DEF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771-7CDA-4C5E-BDED-9E692F7C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A17-8ED1-4593-8CDB-0F44A3E0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FC2-C167-4F18-A783-F9BB79E6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C53-1F1E-43EC-A575-7F80C2F5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FD9-58DD-4E19-B157-F9D2F97E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F11-49DD-4608-98ED-DCDFA47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70D-2E69-48AB-92CB-2699C77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1F5-9C1F-4D9E-96A8-C97353CA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7C49-28BD-4A6E-927B-080828BCF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