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023412"/>
        <c:axId val="2974114"/>
      </c:barChart>
      <c:catAx>
        <c:axId val="610234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74114"/>
        <c:crosses val="autoZero"/>
        <c:auto val="1"/>
        <c:lblAlgn val="ctr"/>
        <c:lblOffset val="100"/>
        <c:noMultiLvlLbl val="0"/>
      </c:catAx>
      <c:valAx>
        <c:axId val="29741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0234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0F6F-648C-49D4-AD9E-304C6AC74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FA5B-FBB2-49F7-8B1E-6A620F93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253C-A551-4DEE-8B8B-8560A6E5D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8415-4531-42FF-8E91-C84B431B4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F81E-CB0F-4660-BB46-3767852B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819B-1135-4ED4-95F6-61A5C580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C7DC-1C86-4CA7-B9BB-3329A4D2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1428-5AFE-4955-AD18-782A69D4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D07D-AB5C-44C7-84AD-DA701126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D173-6617-4F3D-B562-94BD9795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B348-CF5F-4C23-B6D6-7AA98B10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F31F-12F8-4B21-86B2-687301AC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17FFAD-DBD3-4AA8-AD6D-64F509342C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