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02329"/>
        <c:axId val="64609355"/>
      </c:barChart>
      <c:catAx>
        <c:axId val="32002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09355"/>
        <c:crosses val="autoZero"/>
        <c:auto val="1"/>
        <c:lblAlgn val="ctr"/>
        <c:lblOffset val="100"/>
        <c:noMultiLvlLbl val="0"/>
      </c:catAx>
      <c:valAx>
        <c:axId val="6460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02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CB0-C3C1-495B-B125-8B0BA7C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054-868F-445D-B520-0385E3F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888-09B1-4F4C-8908-2944C000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083-73EF-44F6-9EB5-6117650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8F4-C9C8-478B-8FED-B49218A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BD8-7CE2-4897-BD3D-06DB4C8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99F-5B7E-49D9-9BC0-AFD4D25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676-0C82-4991-A5D2-8B36D488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2E6-C093-468E-8D91-A72D035B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C02-F7E4-473F-9888-AB585B5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772-2FE1-4E5F-99C4-A33D7CE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62D-D6DC-4428-BE5A-A1B8B26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CF37-5A69-4048-B32F-55C6C6E4D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