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857061"/>
        <c:axId val="74517778"/>
      </c:barChart>
      <c:catAx>
        <c:axId val="578570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17778"/>
        <c:crosses val="autoZero"/>
        <c:auto val="1"/>
        <c:lblAlgn val="ctr"/>
        <c:lblOffset val="100"/>
        <c:noMultiLvlLbl val="0"/>
      </c:catAx>
      <c:valAx>
        <c:axId val="74517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570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2D9-EBA9-45EC-A2BB-378C974D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3FE-DDD1-4FC9-9022-0EECE11C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A80-E32E-4C58-92E6-68FB76DC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FB9-B598-43A4-AB88-66751ACC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1E5-E4F8-425F-8496-8AD8864D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EB1-5FC1-4CBB-B7B3-0E2FBE2C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08A-192C-4190-B05A-63183304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0B6-0F4A-438C-88F5-AEA01056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B2C-5628-4DC9-B3D2-2E6ADB9E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1CC-FD83-410A-AA9C-F8240529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830-B6E2-432C-91A1-5FE6D92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F96-0AD4-4CDA-9B15-3E67B85A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24880-6FE4-4E01-89D1-DBFF14EA7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