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01252"/>
        <c:axId val="87336130"/>
      </c:barChart>
      <c:catAx>
        <c:axId val="17701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36130"/>
        <c:crosses val="autoZero"/>
        <c:auto val="1"/>
        <c:lblAlgn val="ctr"/>
        <c:lblOffset val="100"/>
        <c:noMultiLvlLbl val="0"/>
      </c:catAx>
      <c:valAx>
        <c:axId val="87336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1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020A-09C5-4301-ADB2-E7E9A411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95C-F378-44C4-9D7C-4178E365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43F2-68EA-4854-BA4D-45246C8A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6DA-3F5A-4049-845B-2F7AE610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B8C-92B5-4390-BFA0-ABB3634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BB2-8316-4D24-BE40-764C246A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7A8-2949-4D67-98A1-4E050320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B15-C87E-4F16-80BE-5F149CA2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BDE-F36F-4E4A-90A1-7241A678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F33-D4EA-4F90-B46A-E211B9F9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8CD-0F48-433A-BC02-E3DEEFF7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796-8613-4895-A7D0-9939A1C8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6800F-F1A4-4B51-8FEB-AED95AF7A3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