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582957"/>
        <c:axId val="54276598"/>
      </c:barChart>
      <c:catAx>
        <c:axId val="865829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276598"/>
        <c:crosses val="autoZero"/>
        <c:auto val="1"/>
        <c:lblAlgn val="ctr"/>
        <c:lblOffset val="100"/>
        <c:noMultiLvlLbl val="0"/>
      </c:catAx>
      <c:valAx>
        <c:axId val="542765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829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63EE-EC97-4579-B913-E1BCE5490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B1D4-046C-461B-925C-C3F2BA1E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F54E-097E-4A03-8282-27F684C68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3F03-8827-4F00-AF03-BE7902267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E6EE-9E63-4879-9C66-3AF17806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083A-0B8A-4B2E-8EE1-A64DC00D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3FF7-831C-4875-A290-7F7381B0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8C34-6043-4039-8859-B16446B6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D5B4-4C53-4DD8-B90F-74677A87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3563-6124-4AFC-8150-9CE1CF83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F71C-8DE2-4053-9A09-8872159D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6318-AA96-4789-90DF-7BC33A06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B6D6F-AAC5-44E5-A43A-FC29931110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