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25178"/>
        <c:axId val="97092237"/>
      </c:barChart>
      <c:catAx>
        <c:axId val="47725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2237"/>
        <c:crosses val="autoZero"/>
        <c:auto val="1"/>
        <c:lblAlgn val="ctr"/>
        <c:lblOffset val="100"/>
        <c:noMultiLvlLbl val="0"/>
      </c:catAx>
      <c:valAx>
        <c:axId val="97092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25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FB8-59D8-4520-BDF8-106A1C19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C71-C6C4-41EF-8169-ACD61CE5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2AF-077F-4E0A-B019-10BF2AE7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FD4-BED4-4111-85AB-207DB63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3E7-37CE-4B70-A157-EDE3C977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CD8-ADD0-44E1-805D-99792A98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F7C-B33A-4E50-8781-D39D5721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6BC-F6E0-4EEA-BFA7-F7269BC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BCF-4134-4DC3-9E21-4C23064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4B5-5545-4B5E-B3E4-5426304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92A-4D4C-4D4B-BDEC-4612147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C57-B845-4D84-848B-5841198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E90C-CFD6-4FBF-8731-F1BB28D6B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