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78249"/>
        <c:axId val="95666051"/>
      </c:barChart>
      <c:catAx>
        <c:axId val="52978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6051"/>
        <c:crosses val="autoZero"/>
        <c:auto val="1"/>
        <c:lblAlgn val="ctr"/>
        <c:lblOffset val="100"/>
        <c:noMultiLvlLbl val="0"/>
      </c:catAx>
      <c:valAx>
        <c:axId val="9566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78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9FC-639C-47BC-B208-535ED23C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160-E935-41F3-8DBB-9345939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4D4-2DC2-49BB-B2F2-2372F84A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A59-ACEB-455C-9C23-CC7B03A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29E-75CD-4749-8283-AD098AD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00-0DDD-4D37-8C62-5810006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471-07B6-49CA-BF04-7A2DE3B6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65B-53A4-4A23-B305-CB373B91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E9-E969-4B6E-95F0-EFB4321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CA8-EBA6-4E8D-B146-0AA455CC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A07-ADAF-459C-B8B8-248B88C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BC7-4CF4-49D7-B9DA-9471B9E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64549-E16F-4C1E-98C1-7C254EA3D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