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8745"/>
        <c:axId val="83147867"/>
      </c:barChart>
      <c:catAx>
        <c:axId val="7208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47867"/>
        <c:crosses val="autoZero"/>
        <c:auto val="1"/>
        <c:lblAlgn val="ctr"/>
        <c:lblOffset val="100"/>
        <c:noMultiLvlLbl val="0"/>
      </c:catAx>
      <c:valAx>
        <c:axId val="83147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8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537-6DDC-4200-A1F2-4DE466D1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126-4AF0-4EB0-83BB-8DC77544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6DD-6809-48CA-A31A-AA4747EF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C56-B72B-4120-9801-C0CA955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1CA-57CC-4AD0-8D2C-70691E2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5FB-060E-4F6E-B844-8D0F8A38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80E-C7D2-480D-A4B1-7E7DFF9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B63-2A43-4DD8-AD44-5CFC8D6B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2FC-A828-42BE-AF26-F4244E5F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18E-6BCA-49EB-A865-5D356F6A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912-266A-4FB8-B527-DDD09C8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0F5-56F3-4DCC-A717-8395B8A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85240-CD88-4DCF-BB07-8196F258F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