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64338"/>
        <c:axId val="83868460"/>
      </c:barChart>
      <c:catAx>
        <c:axId val="85164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68460"/>
        <c:crosses val="autoZero"/>
        <c:auto val="1"/>
        <c:lblAlgn val="ctr"/>
        <c:lblOffset val="100"/>
        <c:noMultiLvlLbl val="0"/>
      </c:catAx>
      <c:valAx>
        <c:axId val="83868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64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630-969C-4C94-93F9-B41B04F8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FB6-76F6-4D22-8000-CE0B22FB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321-3F4D-41E8-AAD9-E8CF24AB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AA3-CF2C-421E-91E9-75125744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A5A-EB8B-4B2C-9718-646CF2EF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9B0-E154-4C22-8C17-3204603A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6C1-CBE0-4CBC-BB52-185FA67F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BFD-028D-4C7E-B022-526D0579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0E1-0932-4924-9DC4-057C8BC8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099-F6FD-406F-BB70-C7FD2C30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9D3-3B20-48A7-B568-9D6557E8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600-AE34-4296-BFDC-7D4CFCD2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DBC4D-900E-436E-B465-DF5BA5B0F0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