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08178"/>
        <c:axId val="25622827"/>
      </c:barChart>
      <c:catAx>
        <c:axId val="79508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22827"/>
        <c:crosses val="autoZero"/>
        <c:auto val="1"/>
        <c:lblAlgn val="ctr"/>
        <c:lblOffset val="100"/>
        <c:noMultiLvlLbl val="0"/>
      </c:catAx>
      <c:valAx>
        <c:axId val="25622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08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6F8C-3B06-435D-A390-957F9A9B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34C-1F3E-4C10-8B9B-FB832C2E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ABB-4F0C-42DE-859D-E4208E0A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DBE1-C2CD-4666-B408-ABF2AF27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656-1597-42BD-B22A-04218E7C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3062-B0A5-4DE6-BB7A-DE69812F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F83-5678-4B7C-A98B-4AFAA891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61B-FD5E-47D6-99FA-73C702B5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E73-1045-4A51-82C3-6D6E90B9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885-CF40-4B28-9B09-75996E4E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831-B890-4247-AE94-7F70997D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14F5-EEFA-4A0B-BBD4-8C36428A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30A34-6ECE-442E-AAD2-2030A74F7D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