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52131"/>
        <c:axId val="58484046"/>
      </c:barChart>
      <c:catAx>
        <c:axId val="251521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84046"/>
        <c:crosses val="autoZero"/>
        <c:auto val="1"/>
        <c:lblAlgn val="ctr"/>
        <c:lblOffset val="100"/>
        <c:noMultiLvlLbl val="0"/>
      </c:catAx>
      <c:valAx>
        <c:axId val="58484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521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695E-7103-43DF-BE9C-E3C91FC8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29C-276A-44F8-A7CD-663E58E0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AF7D-DE25-4472-B6A1-2416C24C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E6E-E323-4E18-B99D-5322A115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5CC5-79A8-4BAD-B713-0C055926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9DD-7F8B-4A5F-B6DC-B3267DC3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244-4AF9-48FD-9DD7-580C371D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DCB3-13F7-43B4-A183-29014403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C6B-48D6-452F-B155-7B7F4EE7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2148-EDF9-436D-B6DB-05C7A631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4FA-BA21-43BA-9A32-1885C81A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1F9-8D16-42BE-BDB2-6CE09C07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77721-42AA-4B4E-AF5D-E4582065B8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