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613385"/>
        <c:axId val="3523201"/>
      </c:barChart>
      <c:catAx>
        <c:axId val="626133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23201"/>
        <c:crosses val="autoZero"/>
        <c:auto val="1"/>
        <c:lblAlgn val="ctr"/>
        <c:lblOffset val="100"/>
        <c:noMultiLvlLbl val="0"/>
      </c:catAx>
      <c:valAx>
        <c:axId val="35232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6133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EB9F-372B-487E-8093-C5CCBB45F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CA64-7A99-43D7-AA10-096B184E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28F6-4FEB-48F0-A201-E54B67BCF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6438-EA05-438E-AC3A-B06767319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7387-7B37-4981-8084-1ECBDD86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28C2-BB0A-418E-8094-FFFA468E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D05A-5CDD-45B7-A26E-C150BD30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F391-FC80-4F14-8ECF-CCEC89A9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E44F-160C-4F8C-9B87-67426C52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F60F-90DC-4FF4-8F5D-5D6C56D1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F287-9C19-4D66-8A02-3F251129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94E2-15DD-46CE-9A6F-28814AF2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4A7D4-E44D-4F5F-8D8B-08F1BC7B85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