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09330"/>
        <c:axId val="65419774"/>
      </c:barChart>
      <c:catAx>
        <c:axId val="19409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19774"/>
        <c:crosses val="autoZero"/>
        <c:auto val="1"/>
        <c:lblAlgn val="ctr"/>
        <c:lblOffset val="100"/>
        <c:noMultiLvlLbl val="0"/>
      </c:catAx>
      <c:valAx>
        <c:axId val="65419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09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9D4-7B1B-4B3A-A59E-0CCEF883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751-F31C-49BB-9725-6AF216F2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B3D-9EDB-431B-BEEA-A0855A76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C50-2597-4BE6-A2FF-000960B0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4C0-63C2-4868-B13F-8D94F845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685-7F8B-4755-B6AD-1F4D4658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9128-4955-4609-AA5E-CB2AB55A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A94-83DE-4938-BF62-58169732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2DE1-F368-4E90-8B14-684AC1AF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1D5-19E5-476C-AB20-17F945CE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4CA-E4F4-4A16-968C-E772B9D0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D88-D994-4362-9B80-028C168A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8797A-FFFA-4D4A-A264-1183A3C42F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