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9216"/>
        <c:axId val="16245101"/>
      </c:barChart>
      <c:catAx>
        <c:axId val="28589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45101"/>
        <c:crosses val="autoZero"/>
        <c:auto val="1"/>
        <c:lblAlgn val="ctr"/>
        <c:lblOffset val="100"/>
        <c:noMultiLvlLbl val="0"/>
      </c:catAx>
      <c:valAx>
        <c:axId val="16245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9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6B5-C84B-48C6-9AC4-E5A65B7E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462-C14D-4FFF-912B-C41362F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A54-56BF-4E30-A2F4-90DAB52F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BA3-585A-4CBB-900B-C45675C4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5C5-5706-4972-8132-6ECF958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63F-E861-49E8-BE1C-D3E44B0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77A-AC3D-4636-AFA9-65DEDF3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627-657B-45C1-97F8-07127D5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B91-4190-470D-8991-D4DD84A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2B1-E0BB-4401-872A-764ACB1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DAB-B08C-4D98-AE81-EDB478A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05D-2583-46C9-AF60-A160B2D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30D7B-22B6-4786-9A01-CF2F8F6CD8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