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63632"/>
        <c:axId val="4876659"/>
      </c:barChart>
      <c:catAx>
        <c:axId val="80863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6659"/>
        <c:crosses val="autoZero"/>
        <c:auto val="1"/>
        <c:lblAlgn val="ctr"/>
        <c:lblOffset val="100"/>
        <c:noMultiLvlLbl val="0"/>
      </c:catAx>
      <c:valAx>
        <c:axId val="4876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63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A56-07F5-4426-AB50-2B5737CA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49C-2850-4D0D-B5B8-DAA85D32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734-1F8B-482A-8B64-BB1FAC85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7AB-8E55-4CB0-A12B-6891B569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461-812E-4CFE-9147-BC53EE29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128-617A-48C2-8565-C244666B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BE6-C479-44B4-AF27-00F696C9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ACD-BE5C-441B-9126-8597E52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FE1-6EE9-4856-827B-6D9B2FA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B12-AD7F-4D10-9E90-4199B9C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DE2-A308-4327-9345-34A1FB8F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B5B-C2D5-4966-8EC5-F1C5A415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1158C-39A6-4B04-BABB-33291865EF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