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438151"/>
        <c:axId val="50861281"/>
      </c:barChart>
      <c:catAx>
        <c:axId val="304381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861281"/>
        <c:crosses val="autoZero"/>
        <c:auto val="1"/>
        <c:lblAlgn val="ctr"/>
        <c:lblOffset val="100"/>
        <c:noMultiLvlLbl val="0"/>
      </c:catAx>
      <c:valAx>
        <c:axId val="508612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4381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2B94-180C-47BE-AA78-D4785B853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A069-424C-42D8-A351-EBD42BD6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2B5D-6075-44EC-A154-6D63787A5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3314-1A2A-4F27-A16B-E69DDBD7E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7F1D-17C8-4C1A-AF69-BEE8B50A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C95C-32D2-4787-9532-FE532147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A990-75C4-46C5-8F2D-8CCD295B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EA28-6D57-48E2-AFB9-DAB7F40B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B747-2EC9-4171-9564-85C6F67A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6238-63DB-49C7-915F-C52A1233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8300-B03E-44B6-A0FA-26B5DF0A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C6F4-D660-4A36-BDAB-3202DCF8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20227-AB2A-4C52-9BF1-69F04D6DF8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