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06235"/>
        <c:axId val="45646609"/>
      </c:barChart>
      <c:catAx>
        <c:axId val="35806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46609"/>
        <c:crosses val="autoZero"/>
        <c:auto val="1"/>
        <c:lblAlgn val="ctr"/>
        <c:lblOffset val="100"/>
        <c:noMultiLvlLbl val="0"/>
      </c:catAx>
      <c:valAx>
        <c:axId val="45646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06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033-3FC6-4C78-A2A5-C95E5369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B90-AE99-4BDF-9D99-4F9FDE3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6D6-A17B-4622-89B9-C2480E79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5EC-0381-4702-8EB5-0A7B4EF3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205-5D6B-409A-AE89-AAD0E33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BDB-E697-40EB-B0E6-67FE1B2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ADD-03FC-4BC1-98EB-18752B8C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9D6-D11F-4282-B6B7-D1136837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B07-6DE9-43D2-8945-2C47745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0CF-6C0E-4864-A56B-4E81043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3C0-FF6B-4DFC-AF5A-F133A16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C58-3D61-4CDD-981D-08BFEDC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7DE41-48B5-438C-A825-976DAFECD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