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4783"/>
        <c:axId val="77867820"/>
      </c:barChart>
      <c:catAx>
        <c:axId val="41414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67820"/>
        <c:crosses val="autoZero"/>
        <c:auto val="1"/>
        <c:lblAlgn val="ctr"/>
        <c:lblOffset val="100"/>
        <c:noMultiLvlLbl val="0"/>
      </c:catAx>
      <c:valAx>
        <c:axId val="77867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4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F25-D44D-4389-9796-656A01CB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771-1D6C-4CBD-A7DF-9F73C35F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724-D907-4AB2-A7A4-B9067318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700-6EDE-40B6-AC54-C30FEF91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1E4-7AD8-4C71-9BA4-4A44A084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F2E-8537-429E-B415-30EA765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834-900D-4129-B0DD-D7B0BE5A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C7A-DBE9-43F3-8747-D92160AD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C60-E341-4066-B6F8-316C8FE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28E-4CB9-4C40-8CC5-7827D2B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5E6-4F1D-4985-AA7D-019398C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06A-7CE5-4309-B82D-36D7E21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A660-1A85-4687-81AE-C92C14F8B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