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45484"/>
        <c:axId val="52419644"/>
      </c:barChart>
      <c:catAx>
        <c:axId val="35345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19644"/>
        <c:crosses val="autoZero"/>
        <c:auto val="1"/>
        <c:lblAlgn val="ctr"/>
        <c:lblOffset val="100"/>
        <c:noMultiLvlLbl val="0"/>
      </c:catAx>
      <c:valAx>
        <c:axId val="52419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45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780-E9AA-4C48-81C7-33711564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433-CE55-43D3-BDED-76975ADE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C62-78FD-43A3-8952-FB94D8E8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566-8424-4365-89B8-DE5DB01A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ED9-74AE-46B6-A861-B81472E2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DF9C-39C1-40DB-AAB7-EBF6D47A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19D-73FF-4B00-B999-C9FD9678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5C2-C2D2-4133-8274-E5096059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F55-52C8-40AC-8335-36CA65E8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C11-82ED-4ACF-A778-6FF93BB6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3C2-5C34-428C-85BD-E600CEBB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E47-C43A-4E24-8263-D9F2D1F1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36981-03D4-4B84-A379-D2EAC25C7C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