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40628"/>
        <c:axId val="50413958"/>
      </c:barChart>
      <c:catAx>
        <c:axId val="81740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13958"/>
        <c:crosses val="autoZero"/>
        <c:auto val="1"/>
        <c:lblAlgn val="ctr"/>
        <c:lblOffset val="100"/>
        <c:noMultiLvlLbl val="0"/>
      </c:catAx>
      <c:valAx>
        <c:axId val="50413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0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B51-28BB-453E-A2D4-9753A834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77F-3A60-4235-B955-8EF7C29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096-B293-4238-98E4-7989D29D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91F-96AB-4280-80B2-3E6CE8A6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4D8-2F77-472B-8431-5193FC3E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0ED-E6FE-46B7-A2ED-A0C726B3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DDB-DF3E-40F7-A447-E81C3FBF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547-9DDF-47A0-B014-13C21CF7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D84-C073-4316-92AB-ED1A359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E16-634B-4FCE-ADB1-4901300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0FA-73F2-4734-A93D-D9EAC60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AA1-9761-450A-825E-A8A36ED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22B1-EF66-49D5-BC78-49B9DED89D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