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898721"/>
        <c:axId val="544923"/>
      </c:barChart>
      <c:catAx>
        <c:axId val="858987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4923"/>
        <c:crosses val="autoZero"/>
        <c:auto val="1"/>
        <c:lblAlgn val="ctr"/>
        <c:lblOffset val="100"/>
        <c:noMultiLvlLbl val="0"/>
      </c:catAx>
      <c:valAx>
        <c:axId val="5449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8987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F38B-E04B-40F9-A06A-AE04A72D6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EA60-B94B-4739-9047-9AAD636C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1C8C-E598-4F6C-969A-3677AC4EF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2751-4F87-4C46-BF94-6D710ADF0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F43E-151F-45DF-9D31-04EFF0D3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D34F-FEBD-4429-A103-9A4EB09A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DECC-4291-47BC-8729-A76CD519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6002-B332-4BD5-B7F9-01DADFB9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4768-ACF0-47E0-A6A2-A38C8A81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8455-E7F8-4BFB-9ABA-BED82ADF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63C4-B377-4F01-BCA0-51318F35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DF1E-FEB4-4054-9136-91A22013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00A1B-D2E6-4343-9E43-A5C4DC7D12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