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97265"/>
        <c:axId val="18399183"/>
      </c:barChart>
      <c:catAx>
        <c:axId val="65297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99183"/>
        <c:crosses val="autoZero"/>
        <c:auto val="1"/>
        <c:lblAlgn val="ctr"/>
        <c:lblOffset val="100"/>
        <c:noMultiLvlLbl val="0"/>
      </c:catAx>
      <c:valAx>
        <c:axId val="18399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97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E70-2004-4A40-A5CA-BCCC604C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DBE-EB17-4A5D-830D-A6BBAA5E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3FD-FE1D-4436-80ED-85EB7C04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B83-04CD-44EF-8BE9-02D84816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E6A-8C34-4CA7-85F2-7024D84A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E7F-F8A6-4DF0-9418-9ECE557E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F73-D095-4072-A429-F2A61807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1D4-122F-4442-B0BC-11CF3281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609-058D-43BD-B6AB-C8B3F13B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D78-CF82-4094-8785-BB6DA005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5CE-5A42-4F72-BF02-240B64B6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FDE-05E1-47F1-8C8F-E1351890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36F75-B9AC-48AB-BB99-9776F3C47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