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40309"/>
        <c:axId val="98377695"/>
      </c:barChart>
      <c:catAx>
        <c:axId val="50140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7695"/>
        <c:crosses val="autoZero"/>
        <c:auto val="1"/>
        <c:lblAlgn val="ctr"/>
        <c:lblOffset val="100"/>
        <c:noMultiLvlLbl val="0"/>
      </c:catAx>
      <c:valAx>
        <c:axId val="98377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40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133-38A1-4335-9379-598783F7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DB9-0C50-4353-B35A-736E8EA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A62-82FA-4063-9CED-7F7A66C5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49A-3AA3-4E63-AB22-B603A7F3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364-B54B-486F-8E61-BD97288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D57-39D3-4910-8537-5D41C88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14A-10F4-4F33-A9DA-76E98DA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09A-84BA-4C0F-AB8C-56349550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121-A34C-4F94-84B1-C6D52BC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965-502E-4D91-8456-793ECDC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156-5E00-486E-8385-10BC543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B43-CF6D-43B0-B44F-FEC1CBD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63B09-AE67-4238-8FA2-C83A842DD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