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67672"/>
        <c:axId val="64387764"/>
      </c:barChart>
      <c:catAx>
        <c:axId val="70567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87764"/>
        <c:crosses val="autoZero"/>
        <c:auto val="1"/>
        <c:lblAlgn val="ctr"/>
        <c:lblOffset val="100"/>
        <c:noMultiLvlLbl val="0"/>
      </c:catAx>
      <c:valAx>
        <c:axId val="64387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67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85E-308D-450F-BFBF-112F00C5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FD4-8FC9-4166-984D-9E7E8B6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83A-03C5-43E0-BCB2-2CDD1107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E80-DCF9-4EF5-B7F1-637A130C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988-40B6-43C0-AC4C-1D060D7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459-F3C2-4DA1-B0E0-1EFE2685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112-1C3D-4422-9CA4-6AD81E19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43F-F759-4EBD-AA55-A4143882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72F-D79A-4F19-BB53-8455AE13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ECE-8B03-4CA9-B269-243EAFB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CBB-1301-4540-B82B-06EF254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AF9-E3D1-4F4C-B422-1592B63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68D0F-B2D7-4152-94B9-1B411F2B2C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