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823456"/>
        <c:axId val="83143901"/>
      </c:barChart>
      <c:catAx>
        <c:axId val="76823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43901"/>
        <c:crosses val="autoZero"/>
        <c:auto val="1"/>
        <c:lblAlgn val="ctr"/>
        <c:lblOffset val="100"/>
        <c:noMultiLvlLbl val="0"/>
      </c:catAx>
      <c:valAx>
        <c:axId val="831439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823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5E1A-041C-4833-B0D6-9B80A670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72A7-5EB9-4645-AC9C-2AFAFFE1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A260-6498-4BE2-8D00-D6007C69F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E846-1FC3-491B-928A-39FF17B5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DE21-D872-45A9-B4D5-68A676D9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BE4-4860-4885-B677-4AAAAC16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33BA-A56D-417A-BF1B-139012D7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9A3C-D409-4E96-9462-43334CE4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370C-3BF9-4B6C-82EF-472CF503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63A-CDD7-492F-8825-7052A114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86E-6B5A-4D42-9A22-981AA311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5E6F-9FA1-432D-A3B0-5C249D4E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1705-2C9B-4379-AB21-B700A8396F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