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08337"/>
        <c:axId val="20588687"/>
      </c:barChart>
      <c:catAx>
        <c:axId val="19308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88687"/>
        <c:crosses val="autoZero"/>
        <c:auto val="1"/>
        <c:lblAlgn val="ctr"/>
        <c:lblOffset val="100"/>
        <c:noMultiLvlLbl val="0"/>
      </c:catAx>
      <c:valAx>
        <c:axId val="20588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08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A53-F758-4387-A6FA-51D302AB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34D-35C1-42C6-A305-1F6EA435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26D-C1A0-4646-9E3E-2ADC00FE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612-BF74-4890-A2E3-5C2E19C7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B8D-0D16-441B-98AC-E3E51268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88C-390E-4B55-B535-A03143D7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239-D895-49A4-8A9A-060D1CA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D99-1CB6-414F-94D2-7EA340D8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78A-95EA-4E21-8834-755F114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9D6-EEF3-4B19-B1BA-E13EDD3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50B-5F4B-4BFA-8254-CF9C001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F00-1D32-4DE2-8167-C2F7029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E61C8-23B9-485A-8A7F-E075681CA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