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23629"/>
        <c:axId val="30265042"/>
      </c:barChart>
      <c:catAx>
        <c:axId val="60223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5042"/>
        <c:crosses val="autoZero"/>
        <c:auto val="1"/>
        <c:lblAlgn val="ctr"/>
        <c:lblOffset val="100"/>
        <c:noMultiLvlLbl val="0"/>
      </c:catAx>
      <c:valAx>
        <c:axId val="30265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23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3A4-63BA-41D1-8CCF-F4C55CEF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522-E179-4BDA-AEFB-2714E5AD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1A3-A498-4260-A016-3CD24E5B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1E2-2820-4387-BFDB-EB9F7AC1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098-BD74-4DE8-8FEE-BA986458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C45-45C6-4135-8AA8-83CEFDB0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E07-DBAF-4579-9EE8-F658F9BF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378-EDE2-4DB3-8F3C-E5271A5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53A-6789-47C1-B716-B1891121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6BE-7D26-46E9-ADEA-E73F4BE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7B2-16F7-433C-B798-8F96D492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82D-18AF-488D-9504-290C1A5B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AFE95-D890-4857-88A8-162B226B7B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